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43E-94F2-4FB4-9985-01AC1C8C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D25-75CC-471D-A20D-097FBF23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BA8-65BD-44BE-AC85-8E276F82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063-CFBB-4841-88A6-EB2F6583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0481-6A3A-4FD4-9D76-1DCD6E68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CC63-09B9-4AF3-AE85-872A2F3A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9F17-7DE7-4BB3-8674-8A2AA4EA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5DC4-66CA-4284-A70A-FCAA5445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8A79-4C6E-47E4-A34C-903B7911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254E-2958-423C-8267-BCA8A3C0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1109-0E67-4290-81D0-3DBC09A4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444-DC25-47E3-A3EF-1E4A3CF3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7E61-D49A-49FC-A572-C791B33D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2A83-045E-4B03-B88C-BC75C2E1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7179-B144-4528-8A8C-514564D0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51E3-3BFF-41F9-AF5C-6C61332A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F8D7-66CE-41AF-BBFD-37817A19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D0B-11AD-4B5A-91C0-EFD4E30A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27E-B77E-4439-80F1-40254005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6DE-081B-48F8-A627-2DE85CE8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575-8769-4316-B315-22E911A9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AF4-E522-45A7-8FD2-2A305AB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B94-6F87-4E54-8628-C8DB561F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0F4-271F-4244-BE77-5A66389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CF43-9F65-45D9-BC72-92F5BB6E7306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F2C5-D4D1-4370-A16B-8D20C22AC632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KOREAN LANGU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LVEL 1 (NOVICE)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General Course Information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Instructor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Transitional P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400" spc="-1" strike="noStrike">
              <a:solidFill>
                <a:srgbClr val="000000"/>
              </a:solidFill>
              <a:latin typeface="Eurostile"/>
              <a:ea typeface="굴림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Your Topic Goes Here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Elements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www.animationfactory.co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92" name="Picture 224" descr="Z:\newtek\_backgrounds_1.02\Tim\powerpoint templates\101-120\cloud_skipper\cloud_skipper_prt.jpg"/>
          <p:cNvPicPr/>
          <p:nvPr/>
        </p:nvPicPr>
        <p:blipFill>
          <a:blip r:embed="rId1"/>
          <a:stretch/>
        </p:blipFill>
        <p:spPr>
          <a:xfrm>
            <a:off x="6983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5" descr="Z:\newtek\_backgrounds_1.02\Tim\powerpoint templates\101-120\cloud_skipper\cloud_skipper_qx.jpg"/>
          <p:cNvPicPr/>
          <p:nvPr/>
        </p:nvPicPr>
        <p:blipFill>
          <a:blip r:embed="rId2"/>
          <a:stretch/>
        </p:blipFill>
        <p:spPr>
          <a:xfrm>
            <a:off x="152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6" descr="Z:\newtek\_backgrounds_1.02\Tim\powerpoint templates\101-120\cloud_skipper\cloud_skipper_sld.jpg"/>
          <p:cNvPicPr/>
          <p:nvPr/>
        </p:nvPicPr>
        <p:blipFill>
          <a:blip r:embed="rId3"/>
          <a:stretch/>
        </p:blipFill>
        <p:spPr>
          <a:xfrm>
            <a:off x="2428920" y="521820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7" descr="Z:\newtek\_backgrounds_1.02\Tim\powerpoint templates\101-120\cloud_skipper\cloud_skipper_trs.jpg"/>
          <p:cNvPicPr/>
          <p:nvPr/>
        </p:nvPicPr>
        <p:blipFill>
          <a:blip r:embed="rId4"/>
          <a:stretch/>
        </p:blipFill>
        <p:spPr>
          <a:xfrm>
            <a:off x="4705200" y="5218200"/>
            <a:ext cx="2009880" cy="150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y</cp:lastModifiedBy>
  <dcterms:modified xsi:type="dcterms:W3CDTF">2012-07-26T08:41:49Z</dcterms:modified>
  <cp:revision>1</cp:revision>
  <dc:subject/>
  <dc:title>KOREAN LANGUAGE</dc:title>
</cp:coreProperties>
</file>